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C60-FE8D-4579-830C-085B660C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FCE-8995-436B-9995-8108AA2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F596A-CAF1-4536-828C-308A62C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87B99-7B4D-4012-B682-66C488B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3C2BA-75EA-4A36-B78D-B0B5FE8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606AC-5113-4F0D-A9A1-53C3BE88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3D0E9-47F6-4092-AFC9-CBB6C9D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38DB-2606-4957-B255-76E660E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1B1C-046B-456E-896D-6D5ACFF1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49123-FC0D-4400-BDDD-432AA6DB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D8885-4B72-4C91-B568-3040CFAE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F6-9F06-45B2-B68A-40075CB3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D86-E9B8-4AB5-9812-C26E4919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7986-9019-49C5-A920-1FE16547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9F0B-5AAB-4DAC-A1C1-FD72175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8A8-F81B-46BB-A44A-91176032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E0E1-CC8A-4006-B806-12F9E68B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615-A976-419F-A583-A9E52543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513B-F706-48B6-A52C-4C9CAD7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10D-121E-4EC4-8841-ADB0A06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8D8-3664-4352-9826-CAA1D7D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E73-02D8-4B48-ADCD-90E4387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7815-48C3-4140-8828-5984489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7990-61E9-484B-A77C-5430DA96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074-52C9-4C97-B7D8-81E5B729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C1F-247C-4EC3-94BD-F3884C54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FDC0-E03A-4E3E-8B4A-2902E0F6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6462-F8DF-4BC5-859D-3E2BAF58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0CF7-905A-4740-BB9C-44ECEF2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4E08-7166-42DF-8123-680DDA06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76A9-EC9B-41EE-9D0B-96840C4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4B4-75B5-4689-A760-4EC86BE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7B29-8693-47DD-8A4C-8E54B4B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175D-91AE-4795-96F4-AA28ADD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9D53-AA1D-40E6-BF30-2185CA7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328C-F6D7-4470-87D1-16F595D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17F6-080F-4F5E-879E-8783DFC0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E999-C3D3-4A6C-80A6-11A584A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0591-6246-43DD-A128-C1A1D9EF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D264-8E52-48C0-9499-11E749A2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0C0C-674F-4376-AAF2-8BA907E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2E74-CFB1-4ABC-BF34-EEDC6E7A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496-DB8E-43B6-932F-FD441E2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3676-51C6-457D-9D23-AFA2484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6828-B7FD-4F2E-8442-A3691964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0354-809A-4353-B329-E7F8652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60A2-39A2-466F-B270-3A27D37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51F4-6E20-4E52-8E14-725E3C4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FE30-9B1B-4D9D-8DBA-45E034B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D05D-5ADF-49C6-B436-3858E343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7324-A3A9-4D2C-AAD0-C4CF4D8C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F312-6CD4-43BE-B822-D7796CC3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C5CE-2B47-46CA-8CFE-F388616E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1B3-FA6D-4260-A518-73C838E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0CF3-F9BD-470A-A2C1-3958A2DC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1E89-472C-4F59-A9A6-D757677D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43A2-740B-4BE3-91C0-ACDE8C3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EB31-75BD-4366-B1B5-AA23FC7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3FF26-B428-42F8-ACC0-D28C1A75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FF3B-F5B9-4963-9284-667EE41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C743-C324-43AA-B46A-A74245D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C535-BC23-403C-BAAE-62250D2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668A-15DF-45E0-937E-EA9E14DC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2055-9F35-4FB9-9CD6-6FFF6D6A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9CE-80D0-4445-BE45-4CA9ACE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741D-2DC8-4492-A572-78588E62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DDE10-114F-4774-A645-3586056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D8652-9844-47A6-8760-ED7B6D04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EBEC-BA2D-4EBE-A188-67227767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526B-B2BB-40CB-B9AC-3472772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B1B3-6B3E-4508-BCCF-C674588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F614-4DB2-44C9-9170-EB5BD5C0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9BFF-4373-435F-8966-5996E1A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2812-B18D-40CE-8C51-EB55292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E472-B873-4980-ACAB-1BC7703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A72-B9C0-476B-BD19-177063F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D115E-293B-4468-9CAB-4A955B50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F1A9-682A-4A0E-9A4C-EF79A2A6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ECEF-E831-454D-ACFC-FB7BE20B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1C53-FA24-4187-AD0E-4D02020F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73C8-094C-4D63-A8CD-2B0439E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D7E4-C2AA-4D18-ACD9-4B0B47D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2666-656E-4A3F-8769-8D6BE39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08A3-1783-4ED9-A30D-54DE7FB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86BA-11C7-480C-AAE9-51033E1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BC9A-66B8-4368-90F5-CC9B8E5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AC4-3926-4CE7-94AA-2FACE50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8D62-99BF-4A4E-8EF5-F751157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0D32-A2F1-441D-B651-05585DC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C0D6-0E36-4926-8CC5-68905046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E2C7-51A9-4A18-97A8-52571AD8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F28B-C448-4446-8045-2F3D6666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229E-9050-415C-A9FE-8A34B054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7724-2E2F-4AE5-A1F6-3AE44E25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56B69-D34C-4428-BB78-37AE50C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2352D-2C94-4850-A5AC-D3DDAAC3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FEA3-9A9F-4FDA-A76A-EF24985A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B57-94D2-46EB-A151-94EDA66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827C-8C61-49EF-A727-9E500418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D9E6-7AC0-42A6-B625-0507CBF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7BB8-1A0C-46E8-A7E1-4CF14F9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9A76-25BD-4682-BCD5-47F7EE3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64A4-4662-4FEA-82F3-D49AB60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968B-03EB-4527-AE16-35A5C75A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EA451-9B6F-4724-9A4E-3B573F99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5110F-BB7C-4BE4-9ED3-ED06FD45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CB9B4-236E-4A4B-814C-3CE5020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D977-FC20-4ED2-8DA2-B20A6B3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4A4-14D3-472F-90EC-72E1B2DEF3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321-2F57-4389-BC7C-BED8EA9496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E79-447F-4F74-B45D-88083A7047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BE6C-77C1-4D46-B7BF-CEA55D6665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7B02-7D06-4242-BAE7-7E1F968C8D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15D-5350-4EF4-83A4-8C3D502992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7FB1-B65D-4571-A7AA-84FEA39FA6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701C-AC6C-4317-AC8B-A0685B3C48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532B-4F38-4108-A094-5C1DAC93DF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90600" y="2030400"/>
            <a:ext cx="8467560" cy="1760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64000" y="5516640"/>
            <a:ext cx="35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редмет: МХ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Класс: 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Рисунок 9" descr="deskt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5"/>
          <p:cNvSpPr/>
          <p:nvPr/>
        </p:nvSpPr>
        <p:spPr>
          <a:xfrm>
            <a:off x="1187280" y="1413000"/>
            <a:ext cx="66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Я в весеннее поле пошел за цвет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е хотелось собрать там фиалок душист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они показались Так дороги сердц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то всю ночь там провел средь цветов до рассвета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мабэ Акахи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17520" y="384120"/>
            <a:ext cx="8839080" cy="17924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7.jpg"/>
          <p:cNvPicPr/>
          <p:nvPr/>
        </p:nvPicPr>
        <p:blipFill>
          <a:blip r:embed="rId2"/>
          <a:stretch/>
        </p:blipFill>
        <p:spPr>
          <a:xfrm>
            <a:off x="676440" y="2230560"/>
            <a:ext cx="77547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3000"/>
            <a:ext cx="8686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Где можно найти отклики японского искусства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то характерно для искусства Япони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ады являются особым видом японского искусства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виды японских садов существуют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такое идея обретения "пустого сердца", и как она находит выражение в устройстве японского са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 урок – знакомство с культурой, религией и традициями Япо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 урок – японский сад как самобытное искусство Япони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 урок – творческая работа учеников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 урок – отчет по проделанной работ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91864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484000" y="148428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резентац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убликац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Филь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ообще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очине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тория японского са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тьи о японском сад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ад в японском стил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ение японского са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729144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удентка 4 курса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илологического факультета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41 групп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есова О.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0:49:11Z</dcterms:created>
  <dc:creator>DNA7 X64</dc:creator>
  <dc:description/>
  <dc:language>en-US</dc:language>
  <cp:lastModifiedBy>DNA7 X64</cp:lastModifiedBy>
  <dcterms:modified xsi:type="dcterms:W3CDTF">2011-04-06T17:37:26Z</dcterms:modified>
  <cp:revision>14</cp:revision>
  <dc:subject/>
  <dc:title>Тема проекта: Искусство японского сада</dc:title>
</cp:coreProperties>
</file>